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534-1392-4D64-B56F-ADBAFC37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C4D-B56D-421E-921C-485F9EC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300-2070-4F50-8811-02951771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201-EB7D-4206-93AF-225F93DB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A86-BBF3-442B-BBB4-676F7D4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D06-9FDB-4744-96BE-9B0BDD3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7A0-FC97-4620-A8CB-1925B7A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01E-48BA-4EA7-9361-158B60F1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A66-ACD9-4F91-9247-5F0518E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F6B-3B11-405E-8CD6-6362A7F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8EA-CC3A-413F-8C71-7A374C7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7FE-DCED-48A0-BFBD-97CDAAD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9B8-0408-4A5A-AE83-B4133C52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w the Grinch Stole Christm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xmas-grinch-keep.wav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6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rcRect l="-237" t="0" r="-22355" b="-19002"/>
          <a:stretch/>
        </p:blipFill>
        <p:spPr>
          <a:xfrm>
            <a:off x="2133720" y="1143000"/>
            <a:ext cx="6197400" cy="5486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133720" y="4267080"/>
            <a:ext cx="533160" cy="609840"/>
          </a:xfrm>
          <a:prstGeom prst="rect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133720" y="4267080"/>
            <a:ext cx="457200" cy="609840"/>
          </a:xfrm>
          <a:prstGeom prst="rect">
            <a:avLst/>
          </a:pr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√2 or 7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676520" y="1523880"/>
            <a:ext cx="5562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rcRect l="76251" t="60365" r="16252" b="29981"/>
          <a:stretch/>
        </p:blipFill>
        <p:spPr>
          <a:xfrm>
            <a:off x="4038480" y="2133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8√3)/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rcRect l="76251" t="28171" r="4376" b="60567"/>
          <a:stretch/>
        </p:blipFill>
        <p:spPr>
          <a:xfrm>
            <a:off x="2357280" y="144792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1523880" y="4267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Q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ational Lampoon’s Christmas Va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ational lampoon.wav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62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905200" cy="539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608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ngth of a diag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a square is 22√2 m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squ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8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rcRect l="76251" t="28171" r="4376" b="60567"/>
          <a:stretch/>
        </p:blipFill>
        <p:spPr>
          <a:xfrm>
            <a:off x="1676520" y="160020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18288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elf.wav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4119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1752480" y="1523880"/>
            <a:ext cx="5639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5475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hag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-45-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-60-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 that Christmas mov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45.4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rcRect l="81253" t="39437" r="1875" b="42053"/>
          <a:stretch/>
        </p:blipFill>
        <p:spPr>
          <a:xfrm>
            <a:off x="1066680" y="1219320"/>
            <a:ext cx="4294440" cy="3657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5410080" y="1752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enter fielder is standing at point C, this is how far he is from Home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ltitude of an equilat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s 7.4 mete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6.63 me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udolph the Red Nosed Reind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anta - The storm won't subside by tonight. We'll have to cancel Christmas.wav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702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4002" t="40668" r="63004" b="31332"/>
          <a:stretch/>
        </p:blipFill>
        <p:spPr>
          <a:xfrm>
            <a:off x="2362320" y="1447920"/>
            <a:ext cx="49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2"/>
          <a:srcRect l="56878" t="60365" r="30003" b="29175"/>
          <a:stretch/>
        </p:blipFill>
        <p:spPr>
          <a:xfrm>
            <a:off x="2133720" y="2209680"/>
            <a:ext cx="3962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1447920" y="1523880"/>
            <a:ext cx="249084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42670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erry Christmas Charlie Br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xmas-cb-card.wav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√2 or 11.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2"/>
          <a:srcRect l="36877" t="60365" r="56878" b="29981"/>
          <a:stretch/>
        </p:blipFill>
        <p:spPr>
          <a:xfrm>
            <a:off x="3276720" y="2057400"/>
            <a:ext cx="259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√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838080" y="1143000"/>
            <a:ext cx="295128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75248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0-12-08T14:58:39Z</dcterms:modified>
  <cp:revision>9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